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0DD-41CC-4A6A-823A-D6BBDEDC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E05E-6734-46E8-AE5A-A5844BE8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E45-85F9-462B-BD49-F278175B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95C-2F32-4396-9DBC-C62F85B1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C9FA8-A397-4D5A-AC1D-E1818D23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D9D9A-0B25-414A-9CB0-A0C6005A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16E7A-CB28-4E15-B838-879F0057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4A2C8-6FCC-4B9F-8057-830E37B8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85C38-1F71-4498-95B6-1D7A73F4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9D99D-AF67-46A9-9EB0-2BC662F5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56337-5F39-4D2D-B731-B6E69F36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C69-953D-482E-B97F-B38F520B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976ED-843F-42B7-AEE6-9A899BDA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4484B-7541-48CA-8F74-BE0E3C3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C2B7D-543A-408C-AB8E-7731367A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0B147-3EC9-497E-8CA7-0D2DD373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A54D6-D7D5-4064-B1B5-4840F131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A66-DBC2-4446-AC7F-F208F15D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2246-CF92-4008-80D3-898EC41B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820-3FAA-4602-926D-7DA954B8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55B-6284-4495-B80A-8F0ABF4C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A86-24CD-41BC-AE0C-19469D38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A25-ABDF-4BDE-8285-A63C7C7F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0A3-4A14-424D-AD55-A09D9653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EE23-3DDB-437F-B6FA-001FFFE2F1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3C88-BF23-4C2E-9B7C-27BCE7A440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2777760" y="429264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bierno de la Provi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386080" y="4797360"/>
            <a:ext cx="381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Black"/>
              </a:rPr>
              <a:t>SANT  AGO DEL ESTER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9" descr="sigamoscreciendo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877080" y="5229360"/>
            <a:ext cx="1368360" cy="34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santi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3132000" y="4869000"/>
            <a:ext cx="184320" cy="285480"/>
          </a:xfrm>
          <a:prstGeom prst="rect">
            <a:avLst/>
          </a:prstGeom>
          <a:ln w="0">
            <a:noFill/>
          </a:ln>
        </p:spPr>
      </p:pic>
      <p:sp>
        <p:nvSpPr>
          <p:cNvPr id="87" name="Line 11"/>
          <p:cNvSpPr/>
          <p:nvPr/>
        </p:nvSpPr>
        <p:spPr>
          <a:xfrm>
            <a:off x="684360" y="5877000"/>
            <a:ext cx="748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2484360" y="6093000"/>
            <a:ext cx="4537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R  E  P  U  B  L  I  C  A     A  R  G  E  N  T  I  N  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36" descr="sembrado"/>
          <p:cNvPicPr/>
          <p:nvPr/>
        </p:nvPicPr>
        <p:blipFill>
          <a:blip r:embed="rId4"/>
          <a:stretch/>
        </p:blipFill>
        <p:spPr>
          <a:xfrm>
            <a:off x="611280" y="1630440"/>
            <a:ext cx="2079360" cy="714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7"/>
          <p:cNvSpPr/>
          <p:nvPr/>
        </p:nvSpPr>
        <p:spPr>
          <a:xfrm>
            <a:off x="2700360" y="981000"/>
            <a:ext cx="522756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inisterio de Producció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ecursos Naturales, Forestación y Tier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55640" y="836640"/>
            <a:ext cx="1549440" cy="1542960"/>
            <a:chOff x="755640" y="836640"/>
            <a:chExt cx="1549440" cy="1542960"/>
          </a:xfrm>
        </p:grpSpPr>
        <p:pic>
          <p:nvPicPr>
            <p:cNvPr id="92" name="Picture 34" descr="semicirculo"/>
            <p:cNvPicPr/>
            <p:nvPr/>
          </p:nvPicPr>
          <p:blipFill>
            <a:blip r:embed="rId5"/>
            <a:stretch/>
          </p:blipFill>
          <p:spPr>
            <a:xfrm>
              <a:off x="755640" y="836640"/>
              <a:ext cx="154944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5" descr="pino"/>
            <p:cNvPicPr/>
            <p:nvPr/>
          </p:nvPicPr>
          <p:blipFill>
            <a:blip r:embed="rId6"/>
            <a:stretch/>
          </p:blipFill>
          <p:spPr>
            <a:xfrm>
              <a:off x="1013040" y="1119240"/>
              <a:ext cx="26352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8" descr="pino"/>
            <p:cNvPicPr/>
            <p:nvPr/>
          </p:nvPicPr>
          <p:blipFill>
            <a:blip r:embed="rId7"/>
            <a:stretch/>
          </p:blipFill>
          <p:spPr>
            <a:xfrm>
              <a:off x="1324080" y="1065240"/>
              <a:ext cx="26352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39" descr="pino"/>
            <p:cNvPicPr/>
            <p:nvPr/>
          </p:nvPicPr>
          <p:blipFill>
            <a:blip r:embed="rId8"/>
            <a:stretch/>
          </p:blipFill>
          <p:spPr>
            <a:xfrm>
              <a:off x="1603440" y="1039680"/>
              <a:ext cx="263520" cy="6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"/>
          <p:cNvSpPr/>
          <p:nvPr/>
        </p:nvSpPr>
        <p:spPr>
          <a:xfrm>
            <a:off x="2340000" y="263700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RECCION GENERAL DE INDUSTRIA Y COMERCI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55640" y="836640"/>
            <a:ext cx="1549440" cy="1542960"/>
            <a:chOff x="755640" y="836640"/>
            <a:chExt cx="1549440" cy="1542960"/>
          </a:xfrm>
        </p:grpSpPr>
        <p:pic>
          <p:nvPicPr>
            <p:cNvPr id="98" name="Picture 34" descr="semicirculo"/>
            <p:cNvPicPr/>
            <p:nvPr/>
          </p:nvPicPr>
          <p:blipFill>
            <a:blip r:embed="rId9"/>
            <a:stretch/>
          </p:blipFill>
          <p:spPr>
            <a:xfrm>
              <a:off x="755640" y="836640"/>
              <a:ext cx="154944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5" descr="pino"/>
            <p:cNvPicPr/>
            <p:nvPr/>
          </p:nvPicPr>
          <p:blipFill>
            <a:blip r:embed="rId10"/>
            <a:stretch/>
          </p:blipFill>
          <p:spPr>
            <a:xfrm>
              <a:off x="1013040" y="1119240"/>
              <a:ext cx="26352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38" descr="pino"/>
            <p:cNvPicPr/>
            <p:nvPr/>
          </p:nvPicPr>
          <p:blipFill>
            <a:blip r:embed="rId11"/>
            <a:stretch/>
          </p:blipFill>
          <p:spPr>
            <a:xfrm>
              <a:off x="1324080" y="1065240"/>
              <a:ext cx="26352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9" descr="pino"/>
            <p:cNvPicPr/>
            <p:nvPr/>
          </p:nvPicPr>
          <p:blipFill>
            <a:blip r:embed="rId12"/>
            <a:stretch/>
          </p:blipFill>
          <p:spPr>
            <a:xfrm>
              <a:off x="1603440" y="1039680"/>
              <a:ext cx="263520" cy="67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39640" y="1197000"/>
            <a:ext cx="7993080" cy="4753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nfraestructura de apoyo al sector industri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pliación del sistema energético, y adquisición de generadores aislados para abastecer de energía en caso de falta de la mis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pliación de la Red de 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pliación de Red Vial, a los fines de la interconexión de polos industri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218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arques Industriale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que Industrial “La Isla”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evos Parques Industr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Refuncionalización y acondicionamiento del Parque Industrial “La Isla”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(149 h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68360" y="2201760"/>
            <a:ext cx="583272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 vial interna pavimentad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brado públic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 de distribución de agua potab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exión con Rutas Nacionales Nº 34, 9, 64 y Provinciales Nº 1, 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éfon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 de gas natur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pieza y Parquizació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ridad y Vigila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 centr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arques Industriales en el interio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r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ernánd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i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Cuatro Bo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otencialidades de los Parques Industria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Fomentar el crecimiento sostenido y ordenado del sector industri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piciar el desarrollo de zonas o regiones con potenciales sin explotar o mínimamente aprovech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mover capacidades de servicios a las industr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Ubicación Geográfica Estratég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roblemática de los Parques Industriale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idades de Servicios a la Indust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idades de Recursos Human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cesidades de Capacit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ecesidades de Servicios a la Indust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sayos, determinaciones y análi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udios de Impacto Ambien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rtificaciones de C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yo en la implementación de Normas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cionales Calidad y Gest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ecesidades de Recursos Human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nios por Pasantías en Fábr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ción de Bolsa de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iculación con el sector industrial sobre necesidades específicas de Profesiones y Ofic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ecesidades de Capacitacion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ción de Convenio Marco, para lograr la interacción entre el Programa de Capacitación de la Dirección General de Industria y Comercio. y la RED. VI. TE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r la inserción laboral genuina a través de Capacitaciones de Ofic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citaciones para los empleados, mandos medios y gerentes de empre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ILARES DEL DESARROLLO INDUSTRI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moción Industrial mediante la Ley Provincial Nº 67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ques Industri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íneas Crediticias Promocion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cciones para fomentar el Comercio Exteri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rograma de Capacitación a MyPES y PyM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Muchas Gracias por su atenció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356000" y="5931000"/>
            <a:ext cx="4788000" cy="927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280" y="5919840"/>
            <a:ext cx="4500720" cy="9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Objetivos de la Ley 675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opiciar la instalación de industrias y  ampliación de existe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corporación de mano de obra provin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crementar la actividad industrial en zonas de escasa población y tendencia migrat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omentar el aprovechamiento racional de los recursos e insumos de la provi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centivar la utilización y el desarrollo de mejoras tecnológ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poyar la expansión y el fortalecimiento de la Micro, Pequeña y Mediana industri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Se da prioridad a industrias derivadas de los sectores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ad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es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rís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r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quellas que el Poder Ejecutivo declare de interés para el desarrollo económico y social de la Provi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tilice materia prima lo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rporación de mano de obra local (10  empleados míni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ita la sustitución de importaciones o faciliten exportaciones de la Provinc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gan gran efecto multiplicador en la economía Provinc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ulsen a consolidar la industria existente y promuevan actividades agroindustri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endan a una efectiva integración de los procesos productiv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arrollen infraestructura turís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26028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ondiciones a cumplir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BENEFICIOS DE CARÁCTER PROMOCION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volución de hasta un 30% de la inver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integro de hasta un 50% o Crédito Fiscal por obra de Infraestructura que realizan las empre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ención impositiva Pcial. hasta 10 añ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bsidio de hasta 50% a la tasa de interés por créditos para empresas promocionad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BENEFICIOS DE CARÁCTER PROMOCION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dades en la compra, locación, leasing de bienes muebles, inmuebles del Estado Provin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istencia y Asesoramiento Técnico de Organismos del Es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éstamos de fom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Resultados Directos de la Promo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rsión Tot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$564.956.726,2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o de Obra Generada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43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39640" y="601560"/>
            <a:ext cx="7920000" cy="548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457200" y="2614680"/>
          <a:ext cx="4038480" cy="26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61468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0" y="6292800"/>
            <a:ext cx="2232000" cy="56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33:07Z</dcterms:created>
  <dc:creator>comercio</dc:creator>
  <dc:description/>
  <dc:language>en-US</dc:language>
  <cp:lastModifiedBy>*</cp:lastModifiedBy>
  <dcterms:modified xsi:type="dcterms:W3CDTF">2008-05-29T13:01:12Z</dcterms:modified>
  <cp:revision>31</cp:revision>
  <dc:subject/>
  <dc:title>Diapositiva 1</dc:title>
</cp:coreProperties>
</file>